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DFF0-88F6-4B9D-AD70-AA9DB3BCDC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nry Moore was born in July 1898 in Castleford, Yorksh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3B1F-4CA5-4FAE-B953-88DA9FB868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ful websites: www.henrymoore.com                    www.artchive.com/artchive/M/moor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henry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moore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-fdn.co.uk/       www.henry-moore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3AE-09C9-4412-83D0-5D7E526BC8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September 1919, after a brief return to elementary-school teaching, he went to Leeds School of Art on an ex-serviceman's grant. He was soon recognized as a star pupil, and in 1921 won a scholarship to the Royal College of Art in Lond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609B-49BC-4D6D-AD04-351BB0CD99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769-6E07-4A84-ABA2-E242D0B486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DAC-00B2-489F-8AD3-0091FD0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F40-04EE-4AC4-83A2-8B6B4301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155-8EB0-4CF2-8EF4-9D4CBB85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43B-5FC4-46BE-A576-F340CEAA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C40-8313-4336-89DA-16E2353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086-907E-421F-A48A-1136C2D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08B-A81A-4BC0-9DD1-D0E1556D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1CE-A0AE-4B0A-826B-39C118BB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3EB-B478-405B-B691-3B559D21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6BC-A357-44CB-8B38-D40A06CE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7A-E1B9-4416-9E43-6FFE1DC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C6B-175F-425B-AFD2-38171AA7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5BD2-4245-464C-BF6F-9B0BFDFBEF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henry-moore-fdn.co.uk/images/leeds_lh810_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ig Reed Black Italic"/>
              </a:rPr>
              <a:t>Henry Moo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6120" y="2071800"/>
            <a:ext cx="50436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bstract sculp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4200" y="107172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orn:18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ed:19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51760" y="142920"/>
            <a:ext cx="34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orn in Yorksh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2.bp.blogspot.com/_aFUgHABZUG4/ShBylDT_hHI/AAAAAAAADac/FF-EI01nurw/s400/Henry+moore+reclining_figure_2_edit_0.jpg"/>
          <p:cNvPicPr/>
          <p:nvPr/>
        </p:nvPicPr>
        <p:blipFill>
          <a:blip r:embed="rId1"/>
          <a:stretch/>
        </p:blipFill>
        <p:spPr>
          <a:xfrm>
            <a:off x="857160" y="571680"/>
            <a:ext cx="742968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is sculptures are based on abstract figures and objects in na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upload.wikimedia.org/wikipedia/commons/e/e1/HenryMoore_RecliningFigure_1951.jpg"/>
          <p:cNvPicPr/>
          <p:nvPr/>
        </p:nvPicPr>
        <p:blipFill>
          <a:blip r:embed="rId1"/>
          <a:stretch/>
        </p:blipFill>
        <p:spPr>
          <a:xfrm>
            <a:off x="-7920" y="1428840"/>
            <a:ext cx="9151920" cy="497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bluffton.edu/~sullivanm/mooretoronto/twolarge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n you see the shape of a bod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veranda.com/cm/veranda/images/OutdoorLiving-Sculpture-7-lg-69066100.jpg"/>
          <p:cNvPicPr/>
          <p:nvPr/>
        </p:nvPicPr>
        <p:blipFill>
          <a:blip r:embed="rId1"/>
          <a:stretch/>
        </p:blipFill>
        <p:spPr>
          <a:xfrm>
            <a:off x="714240" y="928800"/>
            <a:ext cx="7739280" cy="580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kahngallery.co.uk/d/25477-2/kew+58.jpg"/>
          <p:cNvPicPr/>
          <p:nvPr/>
        </p:nvPicPr>
        <p:blipFill>
          <a:blip r:embed="rId2"/>
          <a:stretch/>
        </p:blipFill>
        <p:spPr>
          <a:xfrm>
            <a:off x="206280" y="142920"/>
            <a:ext cx="8723520" cy="5807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371520" y="6000840"/>
            <a:ext cx="84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makes this sculpture look like a figu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can you describe his sculptur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tate.org.uk/collection/N/N05/N05387_9.jpg"/>
          <p:cNvPicPr/>
          <p:nvPr/>
        </p:nvPicPr>
        <p:blipFill>
          <a:blip r:embed="rId1"/>
          <a:stretch/>
        </p:blipFill>
        <p:spPr>
          <a:xfrm>
            <a:off x="928800" y="857160"/>
            <a:ext cx="7562880" cy="5376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23560" y="200016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mo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577680" y="142884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nr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151040" y="2357280"/>
            <a:ext cx="17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87160" y="5857920"/>
            <a:ext cx="38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les through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569640" y="5929200"/>
            <a:ext cx="19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t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793480" y="100008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oun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-21456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me sculptures are made from bron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arm4.static.flickr.com/3474/3400304586_9d1c6ce9bd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ore studied at Leeds College of 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28840" y="5748480"/>
            <a:ext cx="64008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d later at the Royal College of Art in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tepapa.govt.nz/Henry_web/images/Henry-Moore.jpg"/>
          <p:cNvPicPr/>
          <p:nvPr/>
        </p:nvPicPr>
        <p:blipFill>
          <a:blip r:embed="rId1"/>
          <a:stretch/>
        </p:blipFill>
        <p:spPr>
          <a:xfrm>
            <a:off x="214200" y="1357200"/>
            <a:ext cx="4429080" cy="437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oddcitrus.files.wordpress.com/2009/10/henry-moore-at-work3.jpg"/>
          <p:cNvPicPr/>
          <p:nvPr/>
        </p:nvPicPr>
        <p:blipFill>
          <a:blip r:embed="rId2"/>
          <a:stretch/>
        </p:blipFill>
        <p:spPr>
          <a:xfrm>
            <a:off x="4714920" y="1357200"/>
            <a:ext cx="4071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is experience as a soldier influenced his drawing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original.rolandcollection.com/rolandcollection/images/stills/32-580.gif"/>
          <p:cNvPicPr/>
          <p:nvPr/>
        </p:nvPicPr>
        <p:blipFill>
          <a:blip r:embed="rId1"/>
          <a:stretch/>
        </p:blipFill>
        <p:spPr>
          <a:xfrm>
            <a:off x="214200" y="1571760"/>
            <a:ext cx="4429080" cy="46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bbc.co.uk/schools/gcsebitesize/art/images/a2_henrymoore_row_of_sleepers.jpg"/>
          <p:cNvPicPr/>
          <p:nvPr/>
        </p:nvPicPr>
        <p:blipFill>
          <a:blip r:embed="rId2"/>
          <a:stretch/>
        </p:blipFill>
        <p:spPr>
          <a:xfrm>
            <a:off x="4714920" y="1571760"/>
            <a:ext cx="4132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easypedia.gr/el/images/shared/2/25/Henry_Moore,_Family_Group_(1950).jpg"/>
          <p:cNvPicPr/>
          <p:nvPr/>
        </p:nvPicPr>
        <p:blipFill>
          <a:blip r:embed="rId1"/>
          <a:stretch/>
        </p:blipFill>
        <p:spPr>
          <a:xfrm>
            <a:off x="214200" y="500040"/>
            <a:ext cx="3857760" cy="582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burnaway.org/wp-content/myimages/2009/03/henry-moore221.jpg"/>
          <p:cNvPicPr/>
          <p:nvPr/>
        </p:nvPicPr>
        <p:blipFill>
          <a:blip r:embed="rId2"/>
          <a:stretch/>
        </p:blipFill>
        <p:spPr>
          <a:xfrm>
            <a:off x="4143240" y="2643120"/>
            <a:ext cx="4834080" cy="3625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42880" y="642600"/>
            <a:ext cx="45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he made his sculptures look so stran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enry Moore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800" y="510552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eople of Yorkshire are so proud of Henry Moore, they have a sculpture gallery named after him in L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leeds.diarystar.co.uk/images/henry-moore-institute1.jpg"/>
          <p:cNvPicPr/>
          <p:nvPr/>
        </p:nvPicPr>
        <p:blipFill>
          <a:blip r:embed="rId1"/>
          <a:stretch/>
        </p:blipFill>
        <p:spPr>
          <a:xfrm>
            <a:off x="0" y="963720"/>
            <a:ext cx="5572080" cy="417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katieshingles.files.wordpress.com/2009/01/fig_1i_hmi_exterior_01.jpg"/>
          <p:cNvPicPr/>
          <p:nvPr/>
        </p:nvPicPr>
        <p:blipFill>
          <a:blip r:embed="rId2"/>
          <a:stretch/>
        </p:blipFill>
        <p:spPr>
          <a:xfrm>
            <a:off x="5465880" y="960480"/>
            <a:ext cx="3678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31:30Z</dcterms:created>
  <dc:creator>srn</dc:creator>
  <dc:description/>
  <dc:language>en-US</dc:language>
  <cp:lastModifiedBy>Barbara</cp:lastModifiedBy>
  <dcterms:modified xsi:type="dcterms:W3CDTF">2010-02-16T17:43:47Z</dcterms:modified>
  <cp:revision>9</cp:revision>
  <dc:subject/>
  <dc:title>Henry Moore</dc:title>
</cp:coreProperties>
</file>